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BA20-5721-4498-8C48-D17AFD21F766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CC72-B22B-4DB6-B3DD-087C11BD494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2D38-D1A7-42D5-80C9-5170FEE6E16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8B32-3A26-4FFB-9C47-F6E304927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6787-CBA4-4CFD-81E8-BB76F7DA8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8DD6-791D-40A9-8036-0D88C17AF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50BC-DE94-4A58-AEE1-D6F990AFC1A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3D60-12B4-4755-9591-C7573D4F615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1C12-9FEF-4D9C-B847-D5C3CDD9346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708A-1813-48DC-8E8E-054BE430B7B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08FD-49DD-4487-8023-860DE7E03D7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3C85-78C3-4ADD-B2BE-3CEEDDDD7B0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E4BE-E2A1-445B-AF20-53CA2B196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0179-1086-43A8-9789-4766C926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D575-D16F-46B8-8525-2487BF875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3843-C10B-4CD5-85F7-4B596F99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53C4-C1F3-4D64-ADD7-83F15D35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9EE8-8DAF-4130-9674-3AB4B823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782E-4F54-4BBC-8A54-6DAFF6A5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E18A-32C1-4915-A450-E5266BAE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171E-BC8A-44D0-8AEC-5FE47EFF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EA3D-8E82-466E-B58C-A0C96D1C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3D9E-F09E-4021-B444-1782DEBA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F9FD-3C92-4917-805D-2AA647E8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10A4-F508-4865-A0CC-EB5575C0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BCBD-56A1-4593-B73A-A26277AC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E6EC-466E-45C4-B0C8-BACB5A75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A28D-AF9C-4E6A-9E32-A9A598C0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AE22-7A60-42C5-B285-25CAFCDDC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EACD-7D03-44BC-917D-B4332949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BC71-3796-4BB9-A2A1-B703B582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5E59-6F7D-435B-B904-44B2F034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4CAD-72FB-4BC1-8475-5A6227AD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6B3C-54C7-42B1-ACE0-28135CF1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F67F-D853-47C8-8CFB-7F135F07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D8A8-05BC-4811-9990-46F854EF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1F92-936C-4BD2-A6EC-6E3F03BC3E6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6588-C671-4FD9-A9B2-8F1473FC386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8.-9.klašu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628640"/>
          <a:ext cx="8229600" cy="889200"/>
        </p:xfrm>
        <a:graphic>
          <a:graphicData uri="http://schemas.openxmlformats.org/drawingml/2006/table">
            <a:tbl>
              <a:tblPr/>
              <a:tblGrid>
                <a:gridCol w="2743200"/>
                <a:gridCol w="2955960"/>
                <a:gridCol w="253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s man tajā patī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āpē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ā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vienveidīgus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IEREDZES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600200"/>
          <a:ext cx="8075520" cy="2286000"/>
        </p:xfrm>
        <a:graphic>
          <a:graphicData uri="http://schemas.openxmlformats.org/drawingml/2006/table">
            <a:tbl>
              <a:tblPr/>
              <a:tblGrid>
                <a:gridCol w="2908440"/>
                <a:gridCol w="2719080"/>
                <a:gridCol w="244800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ā man ve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24000" y="1844640"/>
          <a:ext cx="8640720" cy="2809800"/>
        </p:xfrm>
        <a:graphic>
          <a:graphicData uri="http://schemas.openxmlformats.org/drawingml/2006/table">
            <a:tbl>
              <a:tblPr/>
              <a:tblGrid>
                <a:gridCol w="3095640"/>
                <a:gridCol w="3384360"/>
                <a:gridCol w="21607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intereses/stiprās p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bs ar dato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4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5260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nteresē – un kāpēc t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 padodas/ko es protu/kādas ir manas zināšanas? Vai tas mani interesē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rakstura īpaš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vērt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9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8:49:47Z</dcterms:modified>
  <cp:revision>343</cp:revision>
  <dc:subject/>
  <dc:title>Slide 1</dc:title>
</cp:coreProperties>
</file>